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D5E-A8C0-4C3D-9347-14BD8A21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E9D-CA85-45CA-8BAF-A3EEB71D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558-A707-44CD-A0E4-8B1761DF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354-3272-4278-ADFD-3C09D8E7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3DE-C6B5-4ED1-92D9-D3D40D9F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4FE-16DF-461B-BAC4-83C71EB2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1C2-5DBD-4A26-927E-F5B3692A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3DC-EAD2-4B50-B584-B4A59D3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C17-5AB6-4050-A7F9-2F6AADA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11F-DABC-42D4-BF38-B2E3E2D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D61-6664-480F-9B3D-901B38D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8B0-F93E-4F70-9E5F-530A6506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172D-371A-4447-AB86-395EFB1BCD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ssuu.com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lideshare.net/cedecite/rubricainformeescritocedec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annotation_id=annotation_632085&amp;feature=iv&amp;src_vid=aQhvHN_sOQY&amp;v=286geO2Crdk" TargetMode="External"/><Relationship Id="rId2" Type="http://schemas.openxmlformats.org/officeDocument/2006/relationships/hyperlink" Target="http://www.youtube.com/watch?v=iziesFmkBuM" TargetMode="External"/><Relationship Id="rId3" Type="http://schemas.openxmlformats.org/officeDocument/2006/relationships/hyperlink" Target="http://www.youtube.com/watch?v=Lg4G9kQGzyE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colares.net/historia-universal/los-aztecas-los-incas-y-los-mayas/" TargetMode="External"/><Relationship Id="rId2" Type="http://schemas.openxmlformats.org/officeDocument/2006/relationships/hyperlink" Target="http://listas.20minutos.es/lista/10-datos-que-debes-saber-sobre-los-mayas-344540/" TargetMode="External"/><Relationship Id="rId3" Type="http://schemas.openxmlformats.org/officeDocument/2006/relationships/hyperlink" Target="http://listas.20minutos.es/lista/10-datos-que-debes-saber-sobre-los-mayas-344540/" TargetMode="External"/><Relationship Id="rId4" Type="http://schemas.openxmlformats.org/officeDocument/2006/relationships/hyperlink" Target="http://www.portalplanetasedna.com.ar/cuadro_culturas.htm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20minutos.es/noticia/1850214/0/descubren/ciudad-maya/piramides/" TargetMode="External"/><Relationship Id="rId2" Type="http://schemas.openxmlformats.org/officeDocument/2006/relationships/hyperlink" Target="http://www.teinteresa.es/tierra/Descubren-ciudad-perdida-Chactun-mexicana_0_941906291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98900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 mientras tanto en Améric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ayasincasaztecas"/>
          <p:cNvPicPr/>
          <p:nvPr/>
        </p:nvPicPr>
        <p:blipFill>
          <a:blip r:embed="rId1"/>
          <a:stretch/>
        </p:blipFill>
        <p:spPr>
          <a:xfrm>
            <a:off x="4572000" y="404640"/>
            <a:ext cx="4572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042920" y="6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ídeo: El Imperio m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templomaya"/>
          <p:cNvPicPr/>
          <p:nvPr/>
        </p:nvPicPr>
        <p:blipFill>
          <a:blip r:embed="rId1"/>
          <a:stretch/>
        </p:blipFill>
        <p:spPr>
          <a:xfrm>
            <a:off x="684360" y="1484280"/>
            <a:ext cx="69134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hichen-Itza"/>
          <p:cNvPicPr/>
          <p:nvPr/>
        </p:nvPicPr>
        <p:blipFill>
          <a:blip r:embed="rId1"/>
          <a:stretch/>
        </p:blipFill>
        <p:spPr>
          <a:xfrm>
            <a:off x="324000" y="1125360"/>
            <a:ext cx="8459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azte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acrificios+humanos+azteca"/>
          <p:cNvPicPr/>
          <p:nvPr/>
        </p:nvPicPr>
        <p:blipFill>
          <a:blip r:embed="rId1"/>
          <a:stretch/>
        </p:blipFill>
        <p:spPr>
          <a:xfrm>
            <a:off x="250920" y="1268280"/>
            <a:ext cx="3732120" cy="5373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gran%20Tenochtitlan"/>
          <p:cNvPicPr/>
          <p:nvPr/>
        </p:nvPicPr>
        <p:blipFill>
          <a:blip r:embed="rId2"/>
          <a:stretch/>
        </p:blipFill>
        <p:spPr>
          <a:xfrm>
            <a:off x="4067280" y="1916280"/>
            <a:ext cx="48574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la-ciudad-perdida-de-los-incas-wallpapers_3682_160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1258920" y="404640"/>
            <a:ext cx="266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n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tenochititl%25C3%25A1n"/>
          <p:cNvPicPr/>
          <p:nvPr/>
        </p:nvPicPr>
        <p:blipFill>
          <a:blip r:embed="rId1"/>
          <a:stretch/>
        </p:blipFill>
        <p:spPr>
          <a:xfrm>
            <a:off x="1523880" y="1047600"/>
            <a:ext cx="6096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Quetzalc%25C3%25B3atl"/>
          <p:cNvPicPr/>
          <p:nvPr/>
        </p:nvPicPr>
        <p:blipFill>
          <a:blip r:embed="rId1"/>
          <a:stretch/>
        </p:blipFill>
        <p:spPr>
          <a:xfrm>
            <a:off x="539640" y="1628640"/>
            <a:ext cx="7620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6877798697_1f30060b9d_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003640" y="260280"/>
            <a:ext cx="414036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MPIEZA 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¡A JUGA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Reloj"/>
          <p:cNvPicPr/>
          <p:nvPr/>
        </p:nvPicPr>
        <p:blipFill>
          <a:blip r:embed="rId2"/>
          <a:stretch/>
        </p:blipFill>
        <p:spPr>
          <a:xfrm>
            <a:off x="5724360" y="2349360"/>
            <a:ext cx="1008360" cy="1008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7020000" y="270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andina+y+mesoamericana"/>
          <p:cNvPicPr/>
          <p:nvPr/>
        </p:nvPicPr>
        <p:blipFill>
          <a:blip r:embed="rId1"/>
          <a:stretch/>
        </p:blipFill>
        <p:spPr>
          <a:xfrm>
            <a:off x="1476360" y="2924280"/>
            <a:ext cx="6095880" cy="351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interesante"/>
          <p:cNvPicPr/>
          <p:nvPr/>
        </p:nvPicPr>
        <p:blipFill>
          <a:blip r:embed="rId2"/>
          <a:stretch/>
        </p:blipFill>
        <p:spPr>
          <a:xfrm>
            <a:off x="5508720" y="549360"/>
            <a:ext cx="3343320" cy="1847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Dibujo"/>
          <p:cNvPicPr/>
          <p:nvPr/>
        </p:nvPicPr>
        <p:blipFill>
          <a:blip r:embed="rId3"/>
          <a:stretch/>
        </p:blipFill>
        <p:spPr>
          <a:xfrm>
            <a:off x="539640" y="549360"/>
            <a:ext cx="4714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55640" y="62064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mos a aprender para luego poder concurs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concursos-680x680"/>
          <p:cNvPicPr/>
          <p:nvPr/>
        </p:nvPicPr>
        <p:blipFill>
          <a:blip r:embed="rId1"/>
          <a:stretch/>
        </p:blipFill>
        <p:spPr>
          <a:xfrm>
            <a:off x="4356000" y="213372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oncurso_escala"/>
          <p:cNvPicPr/>
          <p:nvPr/>
        </p:nvPicPr>
        <p:blipFill>
          <a:blip r:embed="rId2"/>
          <a:stretch/>
        </p:blipFill>
        <p:spPr>
          <a:xfrm>
            <a:off x="684360" y="242100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9640" y="1484280"/>
            <a:ext cx="5040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grupos de tres, vamos a investigar sobre la sociedad maya, azteca, e in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 que aprendamos lo vamos a registrar en un documento que, posteriormente,  subiremos a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SSUU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En este documento tiene que aparecer información escrita y 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s preparamos para el con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¡A concurs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psiqueviva.com/wp-content/uploads/2013/06/Creatividad_Proceso.png"/>
          <p:cNvPicPr/>
          <p:nvPr/>
        </p:nvPicPr>
        <p:blipFill>
          <a:blip r:embed="rId2"/>
          <a:stretch/>
        </p:blipFill>
        <p:spPr>
          <a:xfrm>
            <a:off x="6012000" y="1989000"/>
            <a:ext cx="2801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la evalu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908000" y="1341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68360" y="206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úbrica para evaluar un informe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1262765-evaluacia-n-de-la-encuesta-de-calidad"/>
          <p:cNvPicPr/>
          <p:nvPr/>
        </p:nvPicPr>
        <p:blipFill>
          <a:blip r:embed="rId2"/>
          <a:stretch/>
        </p:blipFill>
        <p:spPr>
          <a:xfrm>
            <a:off x="3924360" y="328464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44640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Buscamos en Internet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ara aprender y hacer una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84360" y="3500280"/>
            <a:ext cx="3744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 imperio i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 imperio az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 imperio m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Videos-icon"/>
          <p:cNvPicPr/>
          <p:nvPr/>
        </p:nvPicPr>
        <p:blipFill>
          <a:blip r:embed="rId4"/>
          <a:stretch/>
        </p:blipFill>
        <p:spPr>
          <a:xfrm>
            <a:off x="5148360" y="3357720"/>
            <a:ext cx="3014640" cy="30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Reloj"/>
          <p:cNvPicPr/>
          <p:nvPr/>
        </p:nvPicPr>
        <p:blipFill>
          <a:blip r:embed="rId5"/>
          <a:stretch/>
        </p:blipFill>
        <p:spPr>
          <a:xfrm>
            <a:off x="5724360" y="69228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5724360" y="227664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mpo: 3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Buscamos en Internet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os aztecas, los incas y los may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0 datos que debes sa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obre los may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uadro compa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raton"/>
          <p:cNvPicPr/>
          <p:nvPr/>
        </p:nvPicPr>
        <p:blipFill>
          <a:blip r:embed="rId5"/>
          <a:stretch/>
        </p:blipFill>
        <p:spPr>
          <a:xfrm>
            <a:off x="5977080" y="3357720"/>
            <a:ext cx="3166920" cy="316692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1692360" y="1484280"/>
            <a:ext cx="611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llan una ciudad maya que ha permanecido oculta en la selva durante sigl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scubren la ciudad perdida maya de Chactun en la selva mexica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cubren una ciudad maya con 15 pirámides perdida en la selva mexic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cubren una ciudad perdida maya en la selva mexic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raton"/>
          <p:cNvPicPr/>
          <p:nvPr/>
        </p:nvPicPr>
        <p:blipFill>
          <a:blip r:embed="rId3"/>
          <a:stretch/>
        </p:blipFill>
        <p:spPr>
          <a:xfrm>
            <a:off x="5867280" y="3645000"/>
            <a:ext cx="291636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tiempomaya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492360" y="404640"/>
            <a:ext cx="316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m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9:21:56Z</dcterms:created>
  <dc:creator>IR015252AG</dc:creator>
  <dc:description/>
  <dc:language>en-US</dc:language>
  <cp:lastModifiedBy>IR015252AG</cp:lastModifiedBy>
  <dcterms:modified xsi:type="dcterms:W3CDTF">2014-03-06T09:22:32Z</dcterms:modified>
  <cp:revision>1</cp:revision>
  <dc:subject/>
  <dc:title>Diapositiva 1</dc:title>
</cp:coreProperties>
</file>